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EC67-658B-47ED-AD2F-9B5DAD53C1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859B-A4A1-48EE-AF83-05B5348D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3AC2B-978E-4BF3-A71A-B1E8B369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1664-FBB2-47E4-B230-531AA0E0EC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5AD4E-FA67-485D-8D82-9772B29A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E61D-1A8C-4FCE-B158-71A2DCD6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8201B-731B-440A-9F73-2F296CF0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60AA3-FAD4-4A12-9201-75FBD1B0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7577D-A9F3-4E78-9AAE-A7646382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2646-B976-4E08-AABB-6100EE03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3916-7B9C-4EE5-9419-4B336B39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7E2D4-1620-4590-A58E-9F799963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4178-C20B-42B4-A443-1C43DDBBB60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九节  能量节省技术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活动中配合呼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9640" y="1486080"/>
            <a:ext cx="743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基本练习  控制呼吸节奏，用鼻轻吸气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然后用口慢慢将气吹出，时间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姿势  做伸展扩胸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伸直腰、举高手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吸气，做收向身体的动作时（如弯腰、手收向身体时）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动作  当准备用力前，应吸气；当出力时，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三、节省体能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在日常生活中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进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17360"/>
            <a:ext cx="7653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食时要注意坐姿，不宜弯腰或半卧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拿碗筷的双手肘部承托在桌面上，菜碟尽量移近自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加粗手柄的勺子和防滑垫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防洒碗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修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于洗头和化妆要花更多的时间，所以应采取坐位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果工作完成需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以上，应将肘部置于桌上进行或双手撑在面盆上支持双手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脸时用轻便的小毛巾而不要用手直接洗脸，因为用手要花更多力气；拧毛巾时配合正确的呼吸方法；抹脸时，不要将鼻及口同时掩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短发节省时间和活动量，洗发与沐浴同时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电动牙刷、电动剃须刀及长柄梳子，以减少上肢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身体状况及精神最好时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要的洗澡用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采用坐位洗澡或使用浴缸洗澡；洗头需要水盆者，可将水盆放高，避免弯腰或蹲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保持浴室通风，可使用抽气扇或打开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清洁背部时可用长柄海绵刷或长毛巾，并配合呼吸来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洗澡时中途需要休息，可用大毛巾围着身体保暖；可先洗上身，围着毛巾休息后再洗下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澡完毕，用大毛巾包着身体，抹干水分，保持正确的呼吸并放松休息，然后穿回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利用手柄、扶手及放置防滑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穿衣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衣服放于随手可及的地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穿脱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穿患侧，再穿健侧，脱衣时则相反；穿脱衣服时可在前面放一把椅子做扶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配有尼龙搭扣的鞋，以免弯腰系鞋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穿衣钩和长柄鞋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用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座厕或坐便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意座厕高度，必要时对坐便器进行改装或使用座厕加高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平时多吃蔬菜、水果以使排便畅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养成良好的排便习惯，排便时可分几次用力，保持均匀的呼吸，以免过度换气或憋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做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材料及用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饭过程中，不应心急或贪快而同时处理几项工序，这样会使人紧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少用煎炸的烹饪方法，因烟熏易引发呼吸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厨房内或门外放置椅子，以便中途休息；择菜、削皮及调味等工作应坐下来处理。使用辅助器具，如用长汤匙打开锅盖，这样不会烫手；开瓶子时，使用开瓶器或放一块布在盖子上，容易将瓶盖打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、熨衣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利用洗衣机及干衣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洗、熨或折叠衣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衣物太重，可分数次从洗衣机里拿出或放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要将衣物晾干，应先坐下，然后将衣物逐件放在衣架上，再慢慢配合呼吸，将衣架挂起。如距离较远，晾衣服时把衣服放在推车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648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正确的工作姿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节省体能技术在日常生活中的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854440"/>
            <a:ext cx="59529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2556000" y="3501720"/>
            <a:ext cx="5976720" cy="7308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62640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清洁及打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编排好每日家务分工，如周一扫地，周三抹柜等，避免过于操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室内多尘，可使用吸尘器并戴上口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辅助器具，如利用长柄垃圾铲及用拾物器从地上拾起物件，以减少弯腰、伸腰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小推车装重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收拾房间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整理床单时在两侧进行，整理完一侧再整理对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不要靠墙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叠床单时动作要轻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购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计划购物路线及所需物品，避免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购物推车，尽量避免使用手提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较重的物品尽量有送货服务，或找家人及朋友帮助购买，必须自己买时则可分次购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训练时应避免的动作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需进行重复或持续性活动时，避免肘部维持在高于头部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避免肘部过度屈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前臂持续旋前或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腕部反复向尺侧或桡侧偏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能量节省技术是指通过利用人体工效学原理，结合身体功能状态，通过合适的姿势、正确的活动方法或使用辅助器具和辅助技术，以减少体能消耗和预防并发症的技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确的工作姿势  保持正确的姿势；运用合适的身体力学；活动中配合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节省体能技术在日常生活中的应用  进食、洗澡、修饰、穿衣、如厕、做饭、洗烫衣服、清洁及打扫、收拾房间、购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应避免的动作  需进行重复或持续性活动时，避免肘部维持在高于头部的位置；应避免肘部过度屈曲；避免前臂持续旋前或旋后；避免腕部反复向尺侧或桡侧偏移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3EC6-7439-4BC5-822D-A341A7DCEA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能量节省技术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列举正确的工作姿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节省体能技术指导患者进行日常生活中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9ACA-E00C-4307-90C6-30C8AC4871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99FA-BB6E-4B84-8AE5-6FC7347C856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通过利用人体工效学原理，结合身体功能状态，通过合适的姿势、正确的活动方法或使用辅助器具和辅助技术，以减少体能消耗和预防并发症的技术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629480" y="4046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Quad Arrow 142"/>
          <p:cNvSpPr/>
          <p:nvPr/>
        </p:nvSpPr>
        <p:spPr>
          <a:xfrm>
            <a:off x="901800" y="1270080"/>
            <a:ext cx="74880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技术的杠杆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体能技术主要是利用运动中的杠杆原理，根据支点，力点，阻力点的位置关系分为平衡杠杆，省力杠杆，速度杠杆。简言之当力臂大于阻力臂时省力，反之当阻力臂大于力臂时则费力。依此原理设计运动方式从而达到以最小的力完成最大的功，保护身体，减少损耗，避免损伤，从而达到节省体能的目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华文新魏"/>
              </a:rPr>
              <a:t>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203240" y="477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1047-D679-45F7-BFCF-D656684185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2060640"/>
            <a:ext cx="5832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正确的工作姿势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92000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采取坐位活动，避免站立过久、蹲位或弯腰作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手部活动，避免双手提举过高，肘不要放在高于肩膀的位置，避免拿重物或推重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64000" y="33336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华文新魏"/>
              </a:rPr>
              <a:t>保持正确的姿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运用合适的身体力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4360" y="1988640"/>
            <a:ext cx="727236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行活动时要挺直腰背，不良的姿势会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不用单手而用双手做事，活动时双臂紧贴身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将手肘承托与桌面工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使用电脑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可以使活动变得较轻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15:36Z</dcterms:created>
  <dc:creator>Home</dc:creator>
  <dc:description/>
  <cp:keywords/>
  <dc:language>en-US</dc:language>
  <cp:lastModifiedBy>赵欣</cp:lastModifiedBy>
  <dcterms:modified xsi:type="dcterms:W3CDTF">2015-12-15T08:54:2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